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742640"/>
            <a:ext cx="841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432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320" y="21380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760" y="21380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7426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320" y="47426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760" y="47426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41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432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742640"/>
            <a:ext cx="841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040"/>
            <a:ext cx="841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882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A GALINHA MAGRICEL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860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160720"/>
            <a:ext cx="84596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u conheço uma galin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 galinha da vizinh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vezinha magricela e depe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Quem tem pena da galinh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360" y="5580000"/>
            <a:ext cx="3419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160720"/>
            <a:ext cx="82803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vezinha depena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 galinha magricela da vizinh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ota ovos pela s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 banheiro e na cozinh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la bota, bota, bo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em par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1619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079640"/>
            <a:ext cx="8280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galinha magric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ta ovos sem pa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galinha magric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É magrela de bo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galinha magric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 bota um e bota dois e bota tr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galinha magric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ra cambota e bota quatro de uma 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21607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720" y="720720"/>
            <a:ext cx="8459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A galinha magrice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E bota dez e bota cem e bota mil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A galinha magrice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Bota ôvo bota ban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e mais bela do Bras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9280" y="4680000"/>
            <a:ext cx="46800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1:25:47Z</dcterms:created>
  <dc:creator/>
  <dc:description>Apresentação geral de um novo produto levando em consideração os desejos do cliente</dc:description>
  <dc:language>en-US</dc:language>
  <cp:lastModifiedBy/>
  <dcterms:modified xsi:type="dcterms:W3CDTF">2010-11-30T11:54:30Z</dcterms:modified>
  <cp:revision>3</cp:revision>
  <dc:subject/>
  <dc:title>Apresente um Novo Produto</dc:title>
</cp:coreProperties>
</file>